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375-9143-4EFA-AB16-2E78DCC6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344-7E2B-4539-988A-5AB966A5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BDD-BDF7-4970-A30C-665C1139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C1F-E66F-4EEC-BC8A-45BB2CBE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F5B-6A4D-4326-A3C4-BB03E870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56E-2831-4B6C-BCA9-3908E172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A37-2505-477C-8B84-CEC3C74F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BEB-5328-45FE-AFA1-E8CC9E4E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D6C-DC5F-4859-A756-A6F5FCBE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18C-DEB2-4362-A262-5D1F9195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ADA-492E-448C-B5B4-899A5FE2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905-91A9-4AE3-B76D-F0495CF9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B7970-E2E9-49A6-BFBE-926046EA13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B4FDF-87EC-4919-B530-95D423BB0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 Not and 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 N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Ess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iting Focu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mmatically Sco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d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xated on minor dates and fa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mply buzz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n FRQ I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hort ans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ent Focu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o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monstrates processes and concep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ility to fully explain and answer the ques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looped back arou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ill driv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6:25:12Z</dcterms:created>
  <dc:creator>Patriot</dc:creator>
  <dc:description/>
  <dc:language>en-US</dc:language>
  <cp:lastModifiedBy>FAdmin</cp:lastModifiedBy>
  <dcterms:modified xsi:type="dcterms:W3CDTF">2011-06-24T16:19:51Z</dcterms:modified>
  <cp:revision>3</cp:revision>
  <dc:subject/>
  <dc:title>What an FRQ Is Not and Is</dc:title>
</cp:coreProperties>
</file>